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9C4-C7F6-47AD-92E8-B76B2844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95B-CDE9-4C65-AD45-4CDCD27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04D-C050-489F-BD75-C8712431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587-651B-47F0-B142-60126EF9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868-1FAE-4CB0-AF65-BD0D68DC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8C58-935C-4693-8CA5-1EC4EB1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D4D-F295-4F51-99B2-F72FBD42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641-2C14-4F97-A9FF-00B79CE9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78F-4786-4BDF-92D8-4F63CA1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6572-D87E-4D88-9C97-EC90A2D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6EB0-9AC9-4CAC-A9E9-96D3FA96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D28-CEEF-42BA-BF4B-F1E5CD5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C4E-83A8-4253-93B9-9F50D08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2B39-EDDA-4237-A141-49CA1E3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B98-EAC1-4C6E-8A5F-A6E78AC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DDD-7838-4A38-9B4D-862ADF13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5D01-C39F-4188-919D-D7FB416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2EC-81EB-4897-9D89-7FE0D30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8AE-6C2C-4AC6-9EBA-A27EFAD6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6FB-0447-4AE3-9FB3-7C7181D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CA0-4E86-4D46-AB30-C00F6B8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E8A-48AB-4D3D-A383-4EA3DE6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41F-16A8-4107-B41A-179A281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893-8D5E-4F11-A190-EA962F9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408-ADCF-46CB-8AC2-B56C8D648E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AFCD-6BD1-4237-9004-C228FC2C1B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3123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unikace 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dnosti a výho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zuálně-motorická exist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nadno naučitelná a reprodukovatel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ní vázána na další pomů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sně vizualizuje mluven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ýho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va jsou hlásková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pomalejší než mluv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ný rozvoj a posléze záměrné utlum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vádí dítě od 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uhy prstových abec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dnoru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vouru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íše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dla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ormova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jčastější použit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známá sl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zvy měst a ob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fické náz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ména a příjm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va, která nemají zn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ěkteré nové zna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dezírání = vizuální perce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jímání informací zrakem a chápání jejich obsahu na základě pohybů mluvidel, mimiky, gestikulace, celkového postoje těla a kontex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oritní místo v interkulturní komunik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inémy = faciální obrazy hlá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1 kinémů pro všechny české hlá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 kinémy pro samohlá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 kinémů pro souhlá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iný vizuální obraz izolovaně vyslovovaných hlásek a hlásek spojovaných do celých s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ější podmínky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zita osvětl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ěr osvětl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verzační vzdále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zita potřeby dorozumět 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měřená mluvní techn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itřní podmínky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ažená úroveň vývoje řeč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ce a psychický sta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v zra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pnost soustředit 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Úroveň schopnosti odezír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kušenosti a úroveň sociálních vztah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pně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unikační systém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94080"/>
            <a:ext cx="77724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stová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zuálně-motorický komunikační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rozený a plnohodnotný jazyk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álně ne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bálně ne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bálně 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ální a nemanuální fak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uhy znakových jazyk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ková řeč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rodní 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kovaný národní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estu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ětský 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osti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tán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 znaková záso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 gramat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orpor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asifiká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metická deskri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hy znaků ve znakovém jazy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azovací (deiktické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podobovací (ikonické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ické (arbitrárn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ariantnost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unikační situace (diglosi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gionální odchy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odchy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dchylky dle pohla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enerační rozdí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umočení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tán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ku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áze tlumoče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oduk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= daktylní abeceda, daktylotika, dakty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stová abeceda = vizuálně-motorická komunikační forma (systém), při které se užívá různých poloh a postavení prstů k vyjádření pís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tegrální součást ČZJ a Z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19:42Z</dcterms:created>
  <dc:creator>Jiří Langer</dc:creator>
  <dc:description/>
  <dc:language>en-US</dc:language>
  <cp:lastModifiedBy>Langer</cp:lastModifiedBy>
  <dcterms:modified xsi:type="dcterms:W3CDTF">2004-10-07T19:59:01Z</dcterms:modified>
  <cp:revision>20</cp:revision>
  <dc:subject/>
  <dc:title>Komunikace sluchově postižených</dc:title>
</cp:coreProperties>
</file>