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FF7-9110-4E3D-ABE9-6A961666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33A-94E1-4EAD-8F67-BA2304F0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3C7-13FE-4386-9B1A-4F149ECE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966-0F69-4C1C-A3CC-A1D88D0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B581-E0CB-417B-A999-F79B686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AD99-AD2E-433E-AFD0-96AA74C6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04E-8183-4EC7-AC7E-F3B69E65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B1E-C130-4017-A1F1-6341B6D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E73-C1B1-4DD3-84E3-0D6B0B7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B8DD-B5CC-47DE-A177-134F79D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961-52B8-4B77-AD6C-E2D1162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804-E029-47BE-9B52-9C3BDE1E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E4A-6570-40F5-AF62-F2C6E2A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A978-4E92-41B8-B798-B035856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D15F-FF34-4E59-BF7D-0DE6DB1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A12-E28F-434B-9896-6A17CAE3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499-4359-4457-89F4-D125C45C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874-D016-45CD-BC54-540CE40E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C8C-27F2-4272-B5DC-9F271B9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2AF-2BB4-401C-B8DD-83145DD6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0F5-EB76-4C65-B381-FB5347BF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C66-4316-41B0-A049-B9427D9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B24-3757-4A21-A805-DFF8AEA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74A-3D1F-4565-BB3A-CD40B65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7BF1-A12D-4F12-9B02-D98653142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BB86-2A19-478D-A2FB-04C4D9BF85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89512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Diagnostika a metody vyše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ř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ení sluch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asické sluchové zkou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hlasitou řečí (Vox mag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šepotem (Vox sibila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ladičk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eberova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inneho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chwabachova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udiomet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udi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č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é uch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evé uch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dušné veden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——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  <a:ea typeface="Tahoma"/>
              </a:rPr>
              <a:t>——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stní vedení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 [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 ]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vodní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řevodní" descr=""/>
          <p:cNvPicPr/>
          <p:nvPr/>
        </p:nvPicPr>
        <p:blipFill>
          <a:blip r:embed="rId1"/>
          <a:stretch/>
        </p:blipFill>
        <p:spPr>
          <a:xfrm>
            <a:off x="2362320" y="2549520"/>
            <a:ext cx="4419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pční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ercepční" descr=""/>
          <p:cNvPicPr/>
          <p:nvPr/>
        </p:nvPicPr>
        <p:blipFill>
          <a:blip r:embed="rId1"/>
          <a:stretch/>
        </p:blipFill>
        <p:spPr>
          <a:xfrm>
            <a:off x="2209680" y="2583000"/>
            <a:ext cx="472464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íšená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smíšená" descr=""/>
          <p:cNvPicPr/>
          <p:nvPr/>
        </p:nvPicPr>
        <p:blipFill>
          <a:blip r:embed="rId1"/>
          <a:stretch/>
        </p:blipFill>
        <p:spPr>
          <a:xfrm>
            <a:off x="2209680" y="2592360"/>
            <a:ext cx="4724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vní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slovní" descr=""/>
          <p:cNvPicPr/>
          <p:nvPr/>
        </p:nvPicPr>
        <p:blipFill>
          <a:blip r:embed="rId1"/>
          <a:stretch/>
        </p:blipFill>
        <p:spPr>
          <a:xfrm>
            <a:off x="685800" y="2709720"/>
            <a:ext cx="777240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ktivní zkoušky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mpedanční audiome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ympanome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stapediálních reflex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toakustické 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spontánní otoakustické emi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ktivní zkoušky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šetření evokovaných sluchových potenciál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3:59:29Z</dcterms:created>
  <dc:creator>Jiří Langer</dc:creator>
  <dc:description/>
  <dc:language>en-US</dc:language>
  <cp:lastModifiedBy>Jiří Langer</cp:lastModifiedBy>
  <dcterms:modified xsi:type="dcterms:W3CDTF">2004-10-07T09:24:15Z</dcterms:modified>
  <cp:revision>16</cp:revision>
  <dc:subject/>
  <dc:title>Diagnostika a metody vyšetření sluchu </dc:title>
</cp:coreProperties>
</file>