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F779-2981-4149-9099-8FCB91D5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08F9-167C-4F1D-A5D4-33D4FBBF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972C-122D-4037-BB39-137C3C69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2877-B4EF-43EE-BDD9-08F91952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A37B-AB86-4176-955E-99D5C560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EF96-90B3-4137-88F8-1FADA2EC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548D-D0E7-4F3E-81B5-F0AEDF8A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5150-2AB1-4072-81D7-45DCC06F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911E-D2A2-4FE8-B98F-60B4866D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5687-6D24-4C4E-8704-CA4057FF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E4DD-A55F-4743-8881-9C6358A0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C451-3CDB-466A-92F2-F279C702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4DCF-7EF7-4481-9412-D93BDDF6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33A3-2548-4A43-8B21-3A41C953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D78C-6530-4395-803A-10F4E7C8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66A4-C7A5-410A-B7D1-71D1C97E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1A34-A04E-442E-B89C-C3245455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FA2-1D3E-4614-9697-CA1F0218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97F2-DDFA-4E5C-902A-FF639469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DED-874D-4086-A992-BA1CCE51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0E7F-A017-4A17-9A7A-53DD299C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A6F0-2B7B-4216-A2B0-7CF573E7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75C2-A4FA-4AFC-9F57-15ECA233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848-2326-4FD8-AA63-75292C0A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48AA-598D-439E-9A1A-4AF5FF32EA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1771-5E55-4DE6-B5E3-DDBEEB1F71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4280" y="3200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chnické pomůcky pro sluchově postižen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uchad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dle tvaru (konstrukčního provedení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rabičková (kapesní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Brý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ávěsn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Boltc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vukovod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aná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uchad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le způsobu zpracování signál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ál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chnické pomůc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lektivní zesilovací aparatu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jít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NFRA-ROT pojít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M pojít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ndikátory hlás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Elektrotaktilní a vibrotaktilní pomůc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axy, mobilní telefony a počítač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mpenzační pomůc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ětelné a vibrační budí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ětelné zvon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alizátory zvonění telefon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silovače zvu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evřené a skryté titul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Kochleární implantá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rčeny těžce sluchově postižený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incip založen na elektrické stimulaci zachovaných vláken sluchového nervu (imituje funkci poškozené kochle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vukový signál transformován na sled elektrických impuls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ráždění sluchového nervu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luchové vjem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Kochleární implantá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lmi přísná kritéria pro výběr kandidátů na implantac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áročná pooperační péč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edukace a trénink sluch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opedická péč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 ideálním případě je možné i telefonov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20:34:53Z</dcterms:created>
  <dc:creator>Langer</dc:creator>
  <dc:description/>
  <dc:language>en-US</dc:language>
  <cp:lastModifiedBy>Langer</cp:lastModifiedBy>
  <dcterms:modified xsi:type="dcterms:W3CDTF">2004-10-07T21:14:19Z</dcterms:modified>
  <cp:revision>4</cp:revision>
  <dc:subject/>
  <dc:title>Technické pomůcky pro sluchově postižené</dc:title>
</cp:coreProperties>
</file>