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C24-D7C6-4585-8E1F-06C40B9C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E7A-1A98-4421-8935-1D3918E6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634-CAA7-4B71-A2D5-832E4C0F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8F8-75F1-431D-814C-AF034A34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5EC9-3F0A-4056-80B2-CF03CB47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01BA-41EC-441C-94EE-C4FC9F98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CE01-0ACA-4B1D-A11C-C8799751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504B-6D8F-4E17-8CD9-651BA1FD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3A8D-014D-49C7-8F40-BCF765FB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45A7-1327-46D5-9B4C-EFFAF845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4D5B-E250-41EF-B466-2D4C754D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A8F-2218-4A12-BB9A-5F2BB49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09CC-E268-4346-803B-8926F0B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3B05-D671-412E-AB26-334B5C3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8EA3-2DF1-4173-ABB1-60E41FF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A821-864E-4400-B094-1B954A9A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C88E-8DF9-4EAC-AD53-6E5B709F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217-F594-48D4-BFFD-DCCC8DBC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B04-B09D-4F33-8BC2-37ED5B57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156-8801-4C7C-B64E-C457233A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7B6-C52B-43B9-B099-21D8B83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425-F0F9-4F18-A51B-E311881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F1B-172F-43B8-8C9D-81A5D0AE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61E-116B-4FC6-997E-B68837F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124-31CD-4A3A-A5D1-004D948B3F6F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FD82-3336-46F5-9651-6683F421E9C7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2286000"/>
            <a:ext cx="7792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Sluchové vnímání a jeho fyziologie, patologie sluchového analyzátoru, klasifikace sluchových vad, vlastnosti zvuku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říčiny vzniku poruch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rinatální příčin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plikovaný por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donoše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sfyx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rodní váha pod 1,5 k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říčiny vzniku poruch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tnatální příčin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íuš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razy hla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něty 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něty středního uc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us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2742840"/>
            <a:ext cx="4191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lověkem slyšitelná frekvence zvu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6 – 20 000 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vlna" descr=""/>
          <p:cNvPicPr/>
          <p:nvPr/>
        </p:nvPicPr>
        <p:blipFill>
          <a:blip r:embed="rId1"/>
          <a:stretch/>
        </p:blipFill>
        <p:spPr>
          <a:xfrm>
            <a:off x="866880" y="2057400"/>
            <a:ext cx="3705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us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7724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lasitost a intenzita zvu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uchový práh (dle frekvence zvuk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matový práh (asi 12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áh bolesti (130 až 14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uchové p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us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uchová adapt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rife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entr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rstimula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tstimula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nava sluchu, zalehnu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inni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nnitus = tzv. ušní šel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bjekti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bjekti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natomie sluchového analyzáto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ucho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520" cy="4195800"/>
          </a:xfrm>
          <a:prstGeom prst="rect">
            <a:avLst/>
          </a:prstGeom>
          <a:ln w="0">
            <a:noFill/>
          </a:ln>
        </p:spPr>
      </p:pic>
      <p:pic>
        <p:nvPicPr>
          <p:cNvPr id="101" name="kustky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102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natomie sluchového analyzáto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kochlea1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671720" cy="3930480"/>
          </a:xfrm>
          <a:prstGeom prst="rect">
            <a:avLst/>
          </a:prstGeom>
          <a:ln w="0">
            <a:noFill/>
          </a:ln>
        </p:spPr>
      </p:pic>
      <p:pic>
        <p:nvPicPr>
          <p:cNvPr id="104" name="kochlea2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814840" cy="3047760"/>
          </a:xfrm>
          <a:prstGeom prst="rect">
            <a:avLst/>
          </a:prstGeom>
          <a:ln w="0">
            <a:noFill/>
          </a:ln>
        </p:spPr>
      </p:pic>
      <p:pic>
        <p:nvPicPr>
          <p:cNvPr id="105" name="corti" descr=""/>
          <p:cNvPicPr/>
          <p:nvPr/>
        </p:nvPicPr>
        <p:blipFill>
          <a:blip r:embed="rId3"/>
          <a:stretch/>
        </p:blipFill>
        <p:spPr>
          <a:xfrm>
            <a:off x="2476440" y="2514600"/>
            <a:ext cx="419112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lasifikace sluchových v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doby vzni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) vroze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ědič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ískané prenatál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) získa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enatál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erinatál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natál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lasifikace sluchových v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tnatálně získané vady slu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elingv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tlingv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lasifikace sluchových v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lokaliz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vod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rcep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chleár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uprakochleár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lasifikace sluchových v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stupně postižení (dle Hlož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ormální sluch (ztráta 0 – 25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ehká nedoslýchavost (26 – 4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řední nedoslýchavost (41 – 55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ředně těžká nedoslých. (56 – 7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ěžká nedoslýchavost (71 – 9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luchota (více než 9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říčiny vzniku poruch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ndrom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sherů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ganů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ndrom 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říčiny vzniku poruch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enatální příčin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tox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irové infek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ubeo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H fa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fi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2:43:09Z</dcterms:created>
  <dc:creator>Jiří Langer</dc:creator>
  <dc:description/>
  <dc:language>en-US</dc:language>
  <cp:lastModifiedBy>Jiří Langer</cp:lastModifiedBy>
  <dcterms:modified xsi:type="dcterms:W3CDTF">2004-10-07T08:57:14Z</dcterms:modified>
  <cp:revision>8</cp:revision>
  <dc:subject/>
  <dc:title>Sluchové vnímání a jeho fyziologie, patologie sluchového analyzátoru, klasifikace sluchových vad, vlastnosti zvuku </dc:title>
</cp:coreProperties>
</file>