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F59-A316-4255-ACCF-BFE516DF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B57-71CA-4B62-A5E1-99703B86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E38-B124-4F35-8261-D93E77F2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CCA-70CA-41AE-8ED4-C746B57B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F1B9-544C-4D90-8123-B72E4091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4DAD-B60D-4A7E-9258-2A5FDB3E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D8DB-1489-4D7B-B658-08C6B828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0951-EC85-4E59-813B-C6C0E02E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BF4C-4FF0-4327-8963-7F665B5D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1171-CFE4-4C73-9241-3BDCFF98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67A5-BD77-4C88-AFB3-40C8D741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F91-8899-4EF4-BBB6-AEDF9D61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961A-EEB0-4F40-B7D3-389C21AB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6758-4FE8-4082-874E-B365DFBE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4846-339F-4335-901D-D4AEF3E1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F48F-57B8-453D-A385-17BE8010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67C2-0D63-476E-A54A-D40A01A6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226-8669-4BB7-B890-45E9A18C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0A5-DACF-4DB6-88DE-CB4B2F28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2AA-358A-4B4F-AFF8-8DB383DB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565-9E4A-4AD1-AB4B-2146E2EE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62F-EDA3-41FB-B947-46AFECC0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088-B87F-4352-B7A9-10566EA2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EDB-A176-408B-A137-F250375B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62C6-AF12-44DB-B9E6-060F4C355F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E48D-E75C-40DE-8204-C9F9DEFE35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 péče o sluchově postižen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 ve světě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. stol. n.l. – lékař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Archigen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lem 1200 – církevní právo uzavřít sňatek posunkovou řeč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6. stol. – období preceptorátu (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Pedro Ponce de Leon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 Juan Pablo Bonet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7. stol. –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Manuel Ramiréz de Carrión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ohn Bulwer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ohn Wal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 ve světě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8. stol. –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ohann Conrad Amman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ohann Ludwig Ferdinand Arnold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acob Rodriguez Pereira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Charles Michel (abbé) de ľ Ep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akládání prvních ústavů a šk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769/70 – Paří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779 – Víde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786 – Prah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 ve světě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znik různých vzdělávacích met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měr francouzský (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abbé de ľ Epée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měr německý (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Samuel Heinicke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880 – Milánský kong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894 – Gallaudetova Univerz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 v Českých zemí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786 – Pražský soukromý ústav pro hluchoněm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832 – Moravskoslezský ústav pro hluchoněmé v Brn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894 – Ivančice, Lipník nad Bečv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07 – Ústav pro německé děti v Olomou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 v Českých zemí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ol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868 – Podpůrný spolek hluchoněmý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0 – Svaz rodičů dětí hluchoněmý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48 – Školský zákon – jednotná školská soust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53 – 2. školský zákon – osmiletá povinná školní docházka + 1 u 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 v Českých zemí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60 – Devítiletá školní docházka +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60 – 1. gymnázium pro 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60 – Rozdělení škol podle stupně postiž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0 – Zrušeno rozdělení škol podle stupně postiž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1 – Zakládání SPC pro 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08:57:49Z</dcterms:created>
  <dc:creator>Langer</dc:creator>
  <dc:description/>
  <dc:language>en-US</dc:language>
  <cp:lastModifiedBy>Jiří Langer</cp:lastModifiedBy>
  <dcterms:modified xsi:type="dcterms:W3CDTF">2004-10-05T05:47:35Z</dcterms:modified>
  <cp:revision>6</cp:revision>
  <dc:subject/>
  <dc:title>Historie péče o sluchově postižené</dc:title>
</cp:coreProperties>
</file>