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363-F424-4F15-9F09-BA208085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36F-6825-4C4A-9C66-EDB83865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707-5EC3-4EBC-9990-2D39D45C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5DB-75B9-4DFF-8DA0-206E1B86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5200-DC53-4317-85B1-B1D7AC14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852D-A5A1-4D54-A15C-48014F0D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97C8-C4E5-4B50-BC81-58A0AED5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2877-649B-4CB1-90CE-424ED3E9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343C-5351-4637-8FAC-3B0A153B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C3E5-7AF2-4CA8-B069-584F4A28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9810-BA00-4893-B8B1-78C477E1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6BD-5536-4E95-AAF3-B17A9DBA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3D23-328A-4953-B06D-8301B84C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EAA3-B7FF-4128-9ECF-CA08307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8236-F4E1-4D14-99AC-E1E96ABF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CEE5-09A2-411B-A859-726A57B4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CD65-932B-43D7-A4FB-897EFBDE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757-775A-46D5-A4A2-F53BF298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9C7-E35D-4068-AF4F-7520EF75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52A-88E8-4DF4-9C8B-6E6345F5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7B0-A8C6-4718-972D-E7BD363F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C4E-6975-487F-B0C1-E90DF3C3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FD0-9E04-4596-A7E6-383EEBCF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C97-F2C6-4797-A539-68F848E6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9988-EA19-48D4-B306-4419BC53E1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8E31-0D56-4BD4-82C3-47E7811EBE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733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urdopedie jako vědní obor, vymezení pojmu, terminologie, surdopedické zás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urdopedie jako vědní ob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777240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 roku 1983 součást logoped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rdopedie = speciálně pedagogická vědní disciplína, která se zabývá péčí o sluchově postižené, jejich výchovou a vzdělávání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ztah surdopedie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 ostatním vědá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ální pedagog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ecná pedagogika a psych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ínské ob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zykově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cké ob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inolog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772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uchové postiž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luch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luchoněm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slyšící x neslyšíc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urdopedické zás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obecné didaktické zásady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čas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tiv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díl v přístupu podle stupně postiž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ktování vývojových zvláštností sluchově postižený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iměřená náročnost a důsled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urdopedické zás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ké a intenzívní uplatňování názor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č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té procvičování a opakov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členění znalostí do aktivní slovní záso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časné rozvíjení návyku čtení a písemného proje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08:27:36Z</dcterms:created>
  <dc:creator>Langer</dc:creator>
  <dc:description/>
  <dc:language>en-US</dc:language>
  <cp:lastModifiedBy>Jiří Langer</cp:lastModifiedBy>
  <dcterms:modified xsi:type="dcterms:W3CDTF">2004-10-05T05:49:11Z</dcterms:modified>
  <cp:revision>3</cp:revision>
  <dc:subject/>
  <dc:title>Surdopedie jako vědní obor</dc:title>
</cp:coreProperties>
</file>