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938-1D56-438B-B793-AD0B1C95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B79-38A3-4201-8FB1-31CDB98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50C-6E3F-4E5D-9B26-C8E9AF24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AA6-352D-41CE-9443-A715878F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CFD-4CDB-410F-8241-C6F4E5F2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1E4-6091-4DE9-B7D9-20F75FB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416-621B-4491-8D05-72BE8F6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411C-2178-4819-AB13-71A3E61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8A30-10F3-4498-9056-A58D599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FA72-9960-49FF-B11C-778140A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92F3-BD13-4E8E-9F9C-0F0555E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EBE-19D7-46E7-A094-9B1322B3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8732-E80D-4614-94CE-7FD1E39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699-6B83-40FF-BFD2-FE886B8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9BC-B811-44E1-98F3-A5F96E33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3693-D8B0-475F-9249-C77FF7B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3FF3-07A5-43DD-A98A-81D3E93F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841-2893-4D25-A22B-1C3AF13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9BE-1079-4BC9-898F-CFE50F1C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0AB-2946-44D0-A99E-2775F40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3CF-0D8A-4881-879B-0650ADF4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1FD-DD41-45FB-8D89-600A216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E62-ECA3-4B99-BE59-A0800CB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BFB-BA02-4D4A-9687-9A1E237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3C6-D3FE-4AE1-B211-9EB7A30D1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F99-458B-4C98-B227-DD713992B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895120"/>
            <a:ext cx="779292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ém péče o sluchově postižené, jejich výchov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al communication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stém vzešel od samotných neslyšících jako výsledek nespokojenosti s výsledky orálního přístupu (USA, 60. lé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běr komunikačních forem je přísně individu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uvená ře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uchová výchova a reedukace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kulace, mimika, pantom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stová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aná řeč, kres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aktický materiá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ilingvální příst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nos informací ve 2 jazykových kód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direktivní metody výu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přednostňování znakového jazyka v raném vě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pora psané formy národního jazy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ncipy bilingválního přístup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ůraz na plnohodnotnou komunik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e výuce přítomni dva pedagogové (slyšící a neslyšíc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klad nejprve ve znakovém jazy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sledně představeno v psané form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ba jazyky jsou představeny odděle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ce 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nie neslyšících (ČUN, ČMJ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v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S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eský klub ohluchlých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RP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r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SN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asopisy a periodik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fo zpravoda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o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60. let 20. stol. Raná péče neexistov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kopníc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Manželé Ewing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notonius van Uden, Armin Lö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John T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Jan Po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iska rané péče (Tam-Ta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C pro sluchově postiž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acovníci SP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ální pedagog (surdoped, logop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sycho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pracovní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innost SPC (raná péč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tní diagnost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sychorehabilitační pomoc rodi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poradens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cvik dě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nty péče SP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ulant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by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chovně-vzdělávací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řské šk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ákladní šk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řední školy, SOŠ, SOU, OU a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soké školy (integra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rál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ální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ilingvál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ální příst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avním cílem je vybudování mluvené řeči v orální i grafické podobě s cílem začlenit sluchově postiženého do majoritní slyšící společ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připouští používání znakového jazy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ální přístup je založen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edukaci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ální logopedické péč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užívání prstové abece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01:30Z</dcterms:created>
  <dc:creator>Jiří Langer</dc:creator>
  <dc:description/>
  <dc:language>en-US</dc:language>
  <cp:lastModifiedBy>Langer</cp:lastModifiedBy>
  <dcterms:modified xsi:type="dcterms:W3CDTF">2004-10-07T20:34:39Z</dcterms:modified>
  <cp:revision>9</cp:revision>
  <dc:subject/>
  <dc:title>Raná péče o děti se sluchovým postižením</dc:title>
</cp:coreProperties>
</file>